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045E-6CE7-4861-A82C-1E465916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147-A8E0-42A9-95B7-A2065DC6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E98-72AB-4B9F-ADC0-1E0CA34A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1FA-E42F-4DF6-9287-B221EBF2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A748-1BDE-42C6-8AE6-F0DC9DFD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2A02-15F6-4643-94A4-040215B5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FE58-7F38-4D59-8D8C-9496B77D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2B44-6912-4C24-B5C6-8DB01AFC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F9DF-8F9F-4CD8-915D-E49592A6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0E93-AC0B-43A0-89D0-8E3F8D32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8024-50C6-4CD9-B32B-5C079DF2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538-691E-407E-AA47-D98E1E22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C21C-9291-4B24-B409-BFD67E88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A0BE-D319-40F9-9392-D9708F99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AEAC-22E1-4E18-B531-F71C12AC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1E7D-8FB4-4438-B8A6-CF6415E0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8D82-1CF4-46F1-86BC-49751D11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413BA-219E-4829-A9A4-0E9A450E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BFB87-B824-4F18-8A3A-789067D5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F7D95-9F24-45D8-BCC6-868EC894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E2036-53BE-4BC6-92B8-0971C85C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A633A-7AF4-4074-88E7-2D54E5AA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1D1-7956-4289-8EC8-19639481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82E84-B02E-4468-B62C-46B80B6E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FA974-0C7E-4BC2-B39C-B41898A4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046CD-0EF4-42E1-B2DD-110C2943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B18E3-5F6D-47C6-B183-32B64C3D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807F0-B94E-4B25-AB04-D358EEB2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475FC-1636-4643-8444-E707D99F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F9730-09B9-4C56-A55F-39DC4E51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C50C-C775-4671-A2C4-45D7793F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AB1D4-3968-419A-8955-547DF890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BE229-398E-4863-9954-0756EB24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354-AE6C-400C-A1C9-72D1751B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F1928-EF1F-4AD6-A654-8E8AC95D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46DB0-94C8-44C4-A785-CFABAF56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3EE05-B9A5-4A68-A5DC-FC92A10B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198E6-8F8F-4353-BB79-B2CD0605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88170-7329-4AE2-965A-BC0954F6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8F39A-5AF9-43AB-9046-578568A1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7B2CD-FD5D-4FFC-9661-4487F6ED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03B8F-EDC2-4E0B-BA5A-CA353947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2B2A3-5138-46C9-A5E8-74BD8BD4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7D0-BBF2-43BA-B448-9A9BB5DE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BCE-3048-4485-B71F-B82FD0D5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F5E7-0769-4B4D-9C8F-948BE2FB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AB5-6797-468E-A8CF-89347AD3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471-5833-4036-8EB0-432C6A03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B6D8-5972-4B3D-AD74-964C75E83ABB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9756-726E-45CA-BF3D-D3E603E96BDA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FD81-3607-4207-83E9-E3FAF334B85C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43F3-5F43-4B81-91DA-752B70C4F20D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rebuchet MS"/>
              </a:rPr>
              <a:t>Updating FpML’s FX Product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456"/>
                </a:solidFill>
                <a:latin typeface="Georgia"/>
              </a:rPr>
              <a:t>Andrew Jacobs</a:t>
            </a:r>
            <a:br>
              <a:rPr sz="2400"/>
            </a:br>
            <a:r>
              <a:rPr b="0" lang="en-GB" sz="2400" spc="-1" strike="noStrike">
                <a:solidFill>
                  <a:srgbClr val="424456"/>
                </a:solidFill>
                <a:latin typeface="Georgia"/>
              </a:rPr>
              <a:t>HandCoded Consulting Lt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456"/>
                </a:solidFill>
                <a:latin typeface="Georgia"/>
              </a:rPr>
              <a:t>4</a:t>
            </a:r>
            <a:r>
              <a:rPr b="0" lang="en-GB" sz="2400" spc="-1" strike="noStrike" baseline="30000">
                <a:solidFill>
                  <a:srgbClr val="424456"/>
                </a:solidFill>
                <a:latin typeface="Georgia"/>
              </a:rPr>
              <a:t>th</a:t>
            </a:r>
            <a:r>
              <a:rPr b="0" lang="en-GB" sz="2400" spc="-1" strike="noStrike">
                <a:solidFill>
                  <a:srgbClr val="424456"/>
                </a:solidFill>
                <a:latin typeface="Georgia"/>
              </a:rPr>
              <a:t> Mar, 20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Spot &amp; Forward Trad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 4.x the spot and forward trades are based on the same fxSingleLeg el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New model renames this to fxSpotOrForwar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SpotOrForwar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Largely the same as 4.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New dealtCurrency element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Picture 3" descr="xx.png"/>
          <p:cNvPicPr/>
          <p:nvPr/>
        </p:nvPicPr>
        <p:blipFill>
          <a:blip r:embed="rId1"/>
          <a:stretch/>
        </p:blipFill>
        <p:spPr>
          <a:xfrm>
            <a:off x="4687920" y="714240"/>
            <a:ext cx="39830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Exchange Rat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1" name="Content Placeholder 4" descr="xx.png"/>
          <p:cNvPicPr/>
          <p:nvPr/>
        </p:nvPicPr>
        <p:blipFill>
          <a:blip r:embed="rId1"/>
          <a:stretch/>
        </p:blipFill>
        <p:spPr>
          <a:xfrm>
            <a:off x="5286240" y="2071800"/>
            <a:ext cx="29019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28760" y="2214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Stricter grammar than 4.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Eliminates a few rule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 Swap Trad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n FX Swap is a combination of two trades, either spot/forward or forward/forwa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he old model allowed any number of exchanges but the new restricts it to just two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n the old model FX Swap was a container for other products – like a strategy. In the new model it’s a single produ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Underlying FX trades are named the ‘nearLeg’ and the ‘farLeg’ to indicate the value date ord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Swap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6" name="Content Placeholder 3" descr="xx.png"/>
          <p:cNvPicPr/>
          <p:nvPr/>
        </p:nvPicPr>
        <p:blipFill>
          <a:blip r:embed="rId1"/>
          <a:stretch/>
        </p:blipFill>
        <p:spPr>
          <a:xfrm>
            <a:off x="5000760" y="2143080"/>
            <a:ext cx="3363840" cy="4525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356760" y="2214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Now contains only two underlying leg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4.x. allowed any number – was effectively a strategy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 Swap Leg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Near and far legs based on a new type and not FxSpotOrFowar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Is not derived from Product as in 4.x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0" name="Content Placeholder 4" descr="xx.png"/>
          <p:cNvPicPr/>
          <p:nvPr/>
        </p:nvPicPr>
        <p:blipFill>
          <a:blip r:embed="rId1"/>
          <a:stretch/>
        </p:blipFill>
        <p:spPr>
          <a:xfrm>
            <a:off x="4714920" y="689040"/>
            <a:ext cx="417996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3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Op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More consistent with other produc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Separate exercise structures for American and European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Averaging and barriers are represented as ‘features’ not separate product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New ‘soldAs’ reference to allow buyer/seller perspective to be easier to deriv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17760" indent="-2311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Did I buy a put or sell a call?  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Reordered to bring related data togeth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Content Placeholder 6" descr="xx.png"/>
          <p:cNvPicPr/>
          <p:nvPr/>
        </p:nvPicPr>
        <p:blipFill>
          <a:blip r:embed="rId1"/>
          <a:stretch/>
        </p:blipFill>
        <p:spPr>
          <a:xfrm>
            <a:off x="5499000" y="-3786120"/>
            <a:ext cx="3287880" cy="104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AmercanExercis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Adds support for multiple exercis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With optional limits on the notional size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8" name="Content Placeholder 4" descr="xx.png"/>
          <p:cNvPicPr/>
          <p:nvPr/>
        </p:nvPicPr>
        <p:blipFill>
          <a:blip r:embed="rId1"/>
          <a:stretch/>
        </p:blipFill>
        <p:spPr>
          <a:xfrm>
            <a:off x="4648320" y="2779560"/>
            <a:ext cx="403848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EuropeanExercis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Describes the exercise parameters and the associated value da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Content Placeholder 4" descr="xx.png"/>
          <p:cNvPicPr/>
          <p:nvPr/>
        </p:nvPicPr>
        <p:blipFill>
          <a:blip r:embed="rId1"/>
          <a:stretch/>
        </p:blipFill>
        <p:spPr>
          <a:xfrm>
            <a:off x="4952880" y="3135240"/>
            <a:ext cx="34290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Conten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Background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The ‘Option’ Framework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Validation Issue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Basic FX Produc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Spot &amp; Forward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FX Swap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FX Option Produc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Simple FX option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3548a"/>
                </a:solidFill>
                <a:latin typeface="Georgia"/>
              </a:rPr>
              <a:t>Barriers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3548a"/>
                </a:solidFill>
                <a:latin typeface="Georgia"/>
              </a:rPr>
              <a:t>Averaging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Digital Option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Range Accrual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Term Deposi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Money Market Deposit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Dual Currency Deposit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OptionFeatu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Adds Asian and/or Barrier features to the op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Content Placeholder 4" descr="xx.png"/>
          <p:cNvPicPr/>
          <p:nvPr/>
        </p:nvPicPr>
        <p:blipFill>
          <a:blip r:embed="rId1"/>
          <a:stretch/>
        </p:blipFill>
        <p:spPr>
          <a:xfrm>
            <a:off x="4948200" y="3836880"/>
            <a:ext cx="3438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AsianFe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Captures the parameters for the average rate calcul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Content Placeholder 4" descr="xx.png"/>
          <p:cNvPicPr/>
          <p:nvPr/>
        </p:nvPicPr>
        <p:blipFill>
          <a:blip r:embed="rId1"/>
          <a:stretch/>
        </p:blipFill>
        <p:spPr>
          <a:xfrm>
            <a:off x="5611680" y="888840"/>
            <a:ext cx="274644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BarrierFe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Defines a barrier level and then condition for activ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0" name="Content Placeholder 4" descr="xx.png"/>
          <p:cNvPicPr/>
          <p:nvPr/>
        </p:nvPicPr>
        <p:blipFill>
          <a:blip r:embed="rId1"/>
          <a:stretch/>
        </p:blipFill>
        <p:spPr>
          <a:xfrm>
            <a:off x="5329080" y="1143000"/>
            <a:ext cx="33307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DigitalOp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2" name="Content Placeholder 5" descr="xx.png"/>
          <p:cNvPicPr/>
          <p:nvPr/>
        </p:nvPicPr>
        <p:blipFill>
          <a:blip r:embed="rId1"/>
          <a:stretch/>
        </p:blipFill>
        <p:spPr>
          <a:xfrm>
            <a:off x="4500720" y="-5043600"/>
            <a:ext cx="4429080" cy="119016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28760" y="2214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Uses grammar to ensure triggers match the exercise styl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Touch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6" name="Content Placeholder 4" descr="xx.png"/>
          <p:cNvPicPr/>
          <p:nvPr/>
        </p:nvPicPr>
        <p:blipFill>
          <a:blip r:embed="rId1"/>
          <a:stretch/>
        </p:blipFill>
        <p:spPr>
          <a:xfrm>
            <a:off x="5524560" y="880920"/>
            <a:ext cx="2976480" cy="58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Trigg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9" name="Content Placeholder 4" descr="xx.png"/>
          <p:cNvPicPr/>
          <p:nvPr/>
        </p:nvPicPr>
        <p:blipFill>
          <a:blip r:embed="rId1"/>
          <a:stretch/>
        </p:blipFill>
        <p:spPr>
          <a:xfrm>
            <a:off x="5572080" y="1571760"/>
            <a:ext cx="27050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Content Placeholder 4" descr="xx.png"/>
          <p:cNvPicPr/>
          <p:nvPr/>
        </p:nvPicPr>
        <p:blipFill>
          <a:blip r:embed="rId1"/>
          <a:stretch/>
        </p:blipFill>
        <p:spPr>
          <a:xfrm>
            <a:off x="5214960" y="-2558880"/>
            <a:ext cx="3576600" cy="9416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28760" y="2214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Payout is proportional to the number of days that an FX rate remains between bound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notional * accruing days / days  in period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Can have additional barrier featur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438086"/>
                </a:solidFill>
                <a:latin typeface="Georgia"/>
              </a:rPr>
              <a:t>e.g. Knock-out barrier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FxRangeAccrualOp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3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Consistency with Interest Rates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t was suggested that the TermDeposit model be made more consistent with Swaps, bu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Confirmations for Term Deposits are much simpl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he current model is compares well with example confirma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changes introduc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Change the terminology used to identify the parties (e.g. the depositor and deposit taker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Re-order some of the elements to group related dat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TermDeposi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Some renaming and reordering compared to 4.x mod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Content Placeholder 5" descr="xx.png"/>
          <p:cNvPicPr/>
          <p:nvPr/>
        </p:nvPicPr>
        <p:blipFill>
          <a:blip r:embed="rId1"/>
          <a:stretch/>
        </p:blipFill>
        <p:spPr>
          <a:xfrm>
            <a:off x="5214960" y="-2357280"/>
            <a:ext cx="3298680" cy="90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Backgroun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This presentation describes a number of change to the FX options to bring them into line with other product area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8086"/>
                </a:solidFill>
                <a:latin typeface="Georgia"/>
              </a:rPr>
              <a:t>Turned out not to be that easy as every product area derives its options inconsistently with the other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8086"/>
                </a:solidFill>
                <a:latin typeface="Georgia"/>
              </a:rPr>
              <a:t>The changes also update the base products to make better use of XML schema and simplify the validation rule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This work has been based on experience of using the FX products at BNP Paribas, JP Morgan and a few other firms, as well as designing the FX validation rule set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Dual Currency Term Deposi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A term deposit with an embedded option that causes the payout to be in a second currenc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8086"/>
                </a:solidFill>
                <a:latin typeface="Georgia"/>
              </a:rPr>
              <a:t>The fixed interest rate + the foreign exchange option can provides a higher rate of retur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These products are confirmed as a single trade which combines deposit and option data attribut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Has been modelled as a ‘feature’ that can be added to a term deposi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38086"/>
                </a:solidFill>
                <a:latin typeface="Georgia"/>
              </a:rPr>
              <a:t>There are other variants that could be added (e.g. deposit take can decided interest and principal payment currency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DualCurrencyFeatur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Describes the properties of an option used to deliver the interest and principal in another currenc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4" name="Content Placeholder 5" descr="xx.png"/>
          <p:cNvPicPr/>
          <p:nvPr/>
        </p:nvPicPr>
        <p:blipFill>
          <a:blip r:embed="rId1"/>
          <a:stretch/>
        </p:blipFill>
        <p:spPr>
          <a:xfrm>
            <a:off x="4648320" y="3067200"/>
            <a:ext cx="40384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Compatibility with 4.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ll 4.x FX products can be transform into the new mod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Some element renaming and re-order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Could be achieved with XSL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X Swaps with more than two legs can be modelled as strateg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Currently No Common Option Bas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Content Placeholder 3" descr=""/>
          <p:cNvPicPr/>
          <p:nvPr/>
        </p:nvPicPr>
        <p:blipFill>
          <a:blip r:embed="rId1"/>
          <a:stretch/>
        </p:blipFill>
        <p:spPr>
          <a:xfrm>
            <a:off x="396720" y="2206800"/>
            <a:ext cx="8345520" cy="43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Option Framework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re is no common ‘Option’ base type in Fp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‘</a:t>
            </a: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OptionBase’ comes close but forces the inclusion of a put/call flag which is no good for digital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only thing all option types have in common is that they have is a buyer and seller/writ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New Option Base Typ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6" name="Content Placeholder 5" descr="xx.png"/>
          <p:cNvPicPr/>
          <p:nvPr/>
        </p:nvPicPr>
        <p:blipFill>
          <a:blip r:embed="rId1"/>
          <a:stretch/>
        </p:blipFill>
        <p:spPr>
          <a:xfrm>
            <a:off x="4643280" y="2143080"/>
            <a:ext cx="3259440" cy="4525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287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Only enforces a buyer and sell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Could be used to re-factor other option typ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Grammar &amp; Rule Issu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X products where added to FpML 3.0 as a DTD based mod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he grammar is very loose – Too many independent optional elements. It does not enforce relationships between elemen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he basic data types used for values like rates have no constraints (e.g. can be negative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Validation Issu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FX product set current has ~47 rul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A lot of rules for such simple produc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A number of rules can be eliminated by adding constraints to el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e.g. FX rates must be greater than zer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Some can be eliminated by having more general enumer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e.g. sideRateQuoteBasi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3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0:08:57Z</dcterms:created>
  <dc:creator>Andrew Jacobs</dc:creator>
  <dc:description/>
  <dc:language>en-US</dc:language>
  <cp:lastModifiedBy>Andrew Jacobs</cp:lastModifiedBy>
  <dcterms:modified xsi:type="dcterms:W3CDTF">2010-03-04T22:07:05Z</dcterms:modified>
  <cp:revision>57</cp:revision>
  <dc:subject/>
  <dc:title>Updating FpML’s FX Products</dc:title>
</cp:coreProperties>
</file>